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899F1-0B09-44E7-94CD-9F298B57A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0A007-BD7F-497F-A8FE-59BBB6E64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EFF21-7DCC-4F81-BA77-2A6D3B7FA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F02A5-F1AB-47FE-B1CA-F3FD9742E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13B76-CC87-4F20-AD23-12C7621D0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F6ABC-47E6-4F5B-961E-AF950C098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EE426-C1D3-4237-9992-82C090AF0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E3D36-B190-401E-8EB3-A791508E7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8617C-8229-478A-9BD2-EB69B3E2E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A738D-7442-4374-9B7C-34D71B804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6713C-4A52-4BBB-B849-04FFE2897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CEF01-5A0C-486F-AB1C-20EE5D911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DE035-056A-4570-83C6-B3A881EF3A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676520" y="4114800"/>
            <a:ext cx="716256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09680" y="1904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7" name="Picture 6" descr=""/>
          <p:cNvPicPr/>
          <p:nvPr/>
        </p:nvPicPr>
        <p:blipFill>
          <a:blip r:embed="rId1"/>
          <a:stretch/>
        </p:blipFill>
        <p:spPr>
          <a:xfrm>
            <a:off x="4952880" y="144792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s29</cp:lastModifiedBy>
  <dcterms:modified xsi:type="dcterms:W3CDTF">2004-10-28T01:35:48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